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3D7-0DF9-4D21-B4F6-073D97EC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3FDD-3BDD-4E32-9DFD-F28726A4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6969-5416-44F2-B6E1-A54E83E7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9F14-EE78-4BE8-8480-C5A7D0E8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830E-289F-4C0A-9B2E-DD69219F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2BCB-4435-413C-8403-9567C037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37C5-8444-49D0-BB9C-F8A59476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71F2-B4ED-473B-A76F-39D8D55E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1B7-37BB-46A5-8FED-70676379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68AA-0EB7-4CA5-B3E3-813ECDA4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9256-1129-4AD5-AE19-9ACAC6CB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C513-20DE-4A78-9F85-CBF1E3AC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9489-6C91-4CD5-AD98-B031F7FD8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8"/>
          <p:cNvSpPr/>
          <p:nvPr/>
        </p:nvSpPr>
        <p:spPr>
          <a:xfrm>
            <a:off x="419040" y="2097000"/>
            <a:ext cx="29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ont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9"/>
          <p:cNvSpPr/>
          <p:nvPr/>
        </p:nvSpPr>
        <p:spPr>
          <a:xfrm>
            <a:off x="1503360" y="316404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Dienst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0"/>
          <p:cNvSpPr/>
          <p:nvPr/>
        </p:nvSpPr>
        <p:spPr>
          <a:xfrm>
            <a:off x="3127320" y="2098800"/>
            <a:ext cx="29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Mittw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1"/>
          <p:cNvSpPr/>
          <p:nvPr/>
        </p:nvSpPr>
        <p:spPr>
          <a:xfrm>
            <a:off x="4570560" y="318456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Donnerst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2"/>
          <p:cNvSpPr/>
          <p:nvPr/>
        </p:nvSpPr>
        <p:spPr>
          <a:xfrm>
            <a:off x="6558120" y="209700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Freit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1"/>
          <p:cNvSpPr/>
          <p:nvPr/>
        </p:nvSpPr>
        <p:spPr>
          <a:xfrm>
            <a:off x="762120" y="42307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Samst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2"/>
          <p:cNvSpPr/>
          <p:nvPr/>
        </p:nvSpPr>
        <p:spPr>
          <a:xfrm>
            <a:off x="4600440" y="4307040"/>
            <a:ext cx="284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Arial"/>
              </a:rPr>
              <a:t>Sonnt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1" descr=""/>
          <p:cNvPicPr/>
          <p:nvPr/>
        </p:nvPicPr>
        <p:blipFill>
          <a:blip r:embed="rId1"/>
          <a:stretch/>
        </p:blipFill>
        <p:spPr>
          <a:xfrm>
            <a:off x="1371600" y="285840"/>
            <a:ext cx="60832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0" y="2158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Janu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9080" y="3530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Febru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886040" y="222264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Mär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362320" y="35305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Apr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781440" y="2254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M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962520" y="35463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Ju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5527800" y="2173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Ju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5715000" y="3530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Aug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6781680" y="2279520"/>
            <a:ext cx="253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Sept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676440" y="476424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Okto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314880" y="4762440"/>
            <a:ext cx="24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Nov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6327720" y="4673520"/>
            <a:ext cx="33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Dez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ectangle 1" descr=""/>
          <p:cNvPicPr/>
          <p:nvPr/>
        </p:nvPicPr>
        <p:blipFill>
          <a:blip r:embed="rId1"/>
          <a:stretch/>
        </p:blipFill>
        <p:spPr>
          <a:xfrm>
            <a:off x="1085760" y="365040"/>
            <a:ext cx="70214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179280" y="1066680"/>
            <a:ext cx="807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ute 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g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der”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 + “te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 – 19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 + “ste”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 - 31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Rectangle 2" descr=""/>
          <p:cNvPicPr/>
          <p:nvPr/>
        </p:nvPicPr>
        <p:blipFill>
          <a:blip r:embed="rId1"/>
          <a:stretch/>
        </p:blipFill>
        <p:spPr>
          <a:xfrm>
            <a:off x="-49320" y="2786040"/>
            <a:ext cx="240192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Rectangle 3" descr=""/>
          <p:cNvPicPr/>
          <p:nvPr/>
        </p:nvPicPr>
        <p:blipFill>
          <a:blip r:embed="rId2"/>
          <a:stretch/>
        </p:blipFill>
        <p:spPr>
          <a:xfrm>
            <a:off x="2335320" y="2798640"/>
            <a:ext cx="1358640" cy="1047960"/>
          </a:xfrm>
          <a:prstGeom prst="rect">
            <a:avLst/>
          </a:prstGeom>
          <a:ln w="0">
            <a:noFill/>
          </a:ln>
        </p:spPr>
      </p:pic>
      <p:pic>
        <p:nvPicPr>
          <p:cNvPr id="65" name="Rectangle 4" descr=""/>
          <p:cNvPicPr/>
          <p:nvPr/>
        </p:nvPicPr>
        <p:blipFill>
          <a:blip r:embed="rId3"/>
          <a:stretch/>
        </p:blipFill>
        <p:spPr>
          <a:xfrm>
            <a:off x="3882960" y="2846520"/>
            <a:ext cx="1822680" cy="104904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5" descr=""/>
          <p:cNvPicPr/>
          <p:nvPr/>
        </p:nvPicPr>
        <p:blipFill>
          <a:blip r:embed="rId4"/>
          <a:stretch/>
        </p:blipFill>
        <p:spPr>
          <a:xfrm>
            <a:off x="6108840" y="2865600"/>
            <a:ext cx="2401920" cy="105408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6" descr=""/>
          <p:cNvPicPr/>
          <p:nvPr/>
        </p:nvPicPr>
        <p:blipFill>
          <a:blip r:embed="rId5"/>
          <a:stretch/>
        </p:blipFill>
        <p:spPr>
          <a:xfrm>
            <a:off x="1968480" y="-23760"/>
            <a:ext cx="4913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914400" y="380880"/>
          <a:ext cx="7010280" cy="5943600"/>
        </p:xfrm>
        <a:graphic>
          <a:graphicData uri="http://schemas.openxmlformats.org/drawingml/2006/table">
            <a:tbl>
              <a:tblPr/>
              <a:tblGrid>
                <a:gridCol w="1752480"/>
                <a:gridCol w="914400"/>
                <a:gridCol w="2590920"/>
                <a:gridCol w="175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 ers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nu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ensta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 zwei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bru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 drit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 vier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 fünf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 sechs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 sieb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 ach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 neu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 zeh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 elf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 zwölf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4:09:40Z</dcterms:created>
  <dc:creator>udsd</dc:creator>
  <dc:description/>
  <dc:language>en-US</dc:language>
  <cp:lastModifiedBy>Alissa Hart</cp:lastModifiedBy>
  <dcterms:modified xsi:type="dcterms:W3CDTF">2014-10-23T15:21:40Z</dcterms:modified>
  <cp:revision>11</cp:revision>
  <dc:subject/>
  <dc:title>Slide 1</dc:title>
</cp:coreProperties>
</file>